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96C-D5EA-47BA-B784-2BB242F3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F10-5776-444E-865D-139339F0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B86-8F53-4B73-822C-3298E99B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B9B-2D5F-4732-893D-7C06DB1E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F921-1A55-4A1A-994D-E2D1D00E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786E-41B6-45E4-ABFC-35E4296E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EB28-67AE-4D0F-A5F8-E9A0ECD2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FAAD-EBF3-4C8F-8DDD-19C5BEFA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DE67-38ED-4282-A399-83DEDA01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2D27-4D25-4561-882A-D44077CF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3DB8-7926-4043-A63A-8E67EF52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3B3-7D1C-4ECF-B596-F524F54F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61BE-A0CF-4B23-B724-63A9C085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B2B6-0B69-491D-AC5A-0D285205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BD33-81A6-4E1F-A432-472A2AAC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2DD4-1A85-4CAD-AA08-F3347A4B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700E-43B8-4332-B552-C71E60D4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566-D28B-4A54-A4F2-657EBFE5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B91-4E13-46CC-86B7-F1ECF878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02D-C906-416A-AC97-96C55FDF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278-B356-495C-9987-6A94B4CF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A12-148B-4DB7-B211-3BDB6696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ACF-A734-446A-99F7-CE8A4250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2C3-2495-47B7-9DDE-456B2E1A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1bf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ad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b3ce82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6652-FD4E-4D28-9D22-BDE83CAEAE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ad4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bf9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3ce82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A214-61F3-450A-83E7-686DA9F35BCE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Structure of TAKS Selections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2640" y="3429000"/>
            <a:ext cx="6629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ed Sel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red Sel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Narrativ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c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ories that hav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rr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alog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written as a letter or diary entr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usually have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Expository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ctu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ten about a content-bas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op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noteworth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fo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btit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Functional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rrativ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ement, application forms, directions, flyers, instructions, notes or programs, recipes or book and movie re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Mixed Selections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rrative and Ex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Paired Selections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reading selections that are put together fo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0:31:57Z</dcterms:created>
  <dc:creator>Teresa Easterling</dc:creator>
  <dc:description/>
  <dc:language>en-US</dc:language>
  <cp:lastModifiedBy>Teresa Easterling</cp:lastModifiedBy>
  <dcterms:modified xsi:type="dcterms:W3CDTF">2008-08-01T17:46:39Z</dcterms:modified>
  <cp:revision>3</cp:revision>
  <dc:subject/>
  <dc:title>Structure of TAKS Selections</dc:title>
</cp:coreProperties>
</file>